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FE36E49-9721-46BC-AFA6-B38380394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AB1DEB-F6C8-49A5-8C4C-3B00516D7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AEAAF33-02AD-4974-93A3-F802473A4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B697A5-3C10-4D04-9EFF-287FF4D6D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1D339-9AC8-4D32-9B43-A6AE8AB0A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9B413-4087-4493-81A6-44308CCB4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C59B5-46EB-428F-85A3-612E59432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9782F-D8D7-4C4D-A4F7-87A999FD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7D0A2-3082-4175-90BC-9E7A0F051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54BC9-2931-4EFF-8E26-053FCC448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4924A-9D29-4242-AE2A-778FA4EB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48595D-2445-41E8-A194-5339C1C4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8CE5A-1738-46B1-ACB8-8D84C21A0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622C4-D9CE-4C2D-92BB-FC3DFC65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CF26D-2C2C-4C3E-81A9-AEDF10E0F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6447A-AFD1-4A4A-91E2-4D07E2D74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32A79-7349-4759-A6EA-E26A7EA3B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651D34-4085-45EA-86C9-70EB0EBB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838AFE-22A0-4992-89E0-FB7961BC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D3CBC8-C977-4BC7-BB40-F7AAB1A0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9C5D6B-8A86-41E5-AF27-9C64AF6C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6B4CFC-03EA-4CF3-9735-5046A836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F46BF4-C9C8-4819-9B2B-F98856BA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800FD5-E427-4726-9577-F183128C8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4896-852C-4C39-8510-8D5F2E19FB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0E17-ACA1-4553-82BC-459F83DBB2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images.magellanvacations.com/images/hotels/Acqualina-Ocean-Resort-acqualinasouthbeachbeach.jpg&amp;imgrefurl=http://www.southbeachluxuryhotels.com/AcqualinaOceanResort.shtml&amp;usg=__1NtSevf-rU_7YfP_CjkM3N0fROM=&amp;h=300&amp;w=450&amp;sz=34&amp;hl=en&amp;start=5&amp;um=1&amp;tbnid=jhYApiOjmk82XM:&amp;tbnh=85&amp;tbnw=127&amp;prev=/images%3Fq%3Dpicture%2Bof%2Ban%2Bocean%2Bresort%26um%3D1%26hl%3Den%26sa%3D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lh3.ggpht.com/_AKfq7EyO8sY/RkYa-3dt66I/AAAAAAAADlU/13GVg0Sic9A/India%2BPic%2B2007-Disk%2B3%2B266.jpg&amp;imgrefurl=http://picasaweb.google.com/lh/photo/zx9iB36X720wy3ZpiV0WDA&amp;usg=__XneinIWUbm765BaMqAyhv80YxBg=&amp;h=1200&amp;w=1600&amp;sz=15&amp;hl=en&amp;start=30&amp;um=1&amp;tbnid=1iCHgoEFLdr8bM:&amp;tbnh=113&amp;tbnw=150&amp;prev=/images%3Fq%3Dpicture%2Bof%2Ba%2Boceanside%2Brestaurant%26start%3D20%26ndsp%3D20%26um%3D1%26hl%3Den%26sa%3DN" TargetMode="External"/><Relationship Id="rId2" Type="http://schemas.openxmlformats.org/officeDocument/2006/relationships/image" Target="../media/image3.jpeg"/><Relationship Id="rId3" Type="http://schemas.openxmlformats.org/officeDocument/2006/relationships/hyperlink" Target="http://images.google.com/imgres?imgurl=http://www.satpvacation.com/page%25204/pool4.JPG&amp;imgrefurl=http://www.satpvacation.com/page4.htm&amp;usg=__lsMX33ELlIgcJpg_jpLyQds2LxM=&amp;h=480&amp;w=640&amp;sz=79&amp;hl=en&amp;start=19&amp;um=1&amp;tbnid=nOMjPICXJwAZSM:&amp;tbnh=103&amp;tbnw=137&amp;prev=/images%3Fq%3Dpicture%2Bof%2Ba%2Bresort%2Bpool%2Bbar%26um%3D1%26hl%3Den%26sa%3DG"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flyingarrowresort.com/cabins/hot_tub/lg_img/hot_tub.jpg&amp;imgrefurl=http://www.flyingarrowresort.com/cabins/hot_tub/hot_tub_2.html&amp;usg=__xXKrx28cSIBuUwFLA7Ka9RSlikU=&amp;h=400&amp;w=600&amp;sz=38&amp;hl=en&amp;start=9&amp;um=1&amp;tbnid=5DqR0HZLaMlqaM:&amp;tbnh=90&amp;tbnw=135&amp;prev=/images%3Fq%3Dpicture%2Bof%2Ba%2Bresort%2Bhot%2Btub%26um%3D1%26hl%3Den%26sa%3D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dukabayresort-tours.com/images/Scuba_Diving_Corals.jpg&amp;imgrefurl=http://dukabayresort-tours.com/&amp;usg=__WtPqI-wpYogsri2ryc8nCYxMUnI=&amp;h=600&amp;w=800&amp;sz=183&amp;hl=en&amp;start=11&amp;um=1&amp;tbnid=mvcyOWF-FXDdwM:&amp;tbnh=107&amp;tbnw=143&amp;prev=/images%3Fq%3Dpicture%2Bof%2Ba%2Bscuba%2Bdiving%26um%3D1%26hl%3Den%26sa%3DG" TargetMode="External"/><Relationship Id="rId2" Type="http://schemas.openxmlformats.org/officeDocument/2006/relationships/image" Target="../media/image6.jpeg"/><Relationship Id="rId3" Type="http://schemas.openxmlformats.org/officeDocument/2006/relationships/hyperlink" Target="http://images.google.com/imgres?imgurl=http://www.destination360.com/north-america/us/hawaii/images/maui/maui-snorkeling.jpg&amp;imgrefurl=http://www.destination360.com/north-america/us/hawaii/maui/maui-snorkeling.php&amp;usg=__UOnB8KWHZtM9_8rAVs1-lXTJ--4=&amp;h=332&amp;w=415&amp;sz=43&amp;hl=en&amp;start=16&amp;um=1&amp;tbnid=TEyPX7D_n8LtLM:&amp;tbnh=100&amp;tbnw=125&amp;prev=/images%3Fq%3Dpicture%2Bof%2Bsnorkeling%26um%3D1%26hl%3Den%26sa%3DG" TargetMode="External"/><Relationship Id="rId4" Type="http://schemas.openxmlformats.org/officeDocument/2006/relationships/image" Target="../media/image7.jpeg"/><Relationship Id="rId5" Type="http://schemas.openxmlformats.org/officeDocument/2006/relationships/hyperlink" Target="http://images.google.com/imgres?imgurl=http://www.chotardlandingresort.net/images/boating/Boating/Boating.JPG&amp;imgrefurl=http://www.chotardlandingresort.net/boating.html&amp;usg=__YArtu5vkQu4bmjJsrkX6CBi7cks=&amp;h=1728&amp;w=2304&amp;sz=660&amp;hl=en&amp;start=10&amp;um=1&amp;tbnid=Zpdlz0r91XGd1M:&amp;tbnh=112&amp;tbnw=150&amp;prev=/images%3Fq%3Dpicture%2Bof%2Bboating%26um%3D1%26hl%3Den%26sa%3DG" TargetMode="External"/><Relationship Id="rId6" Type="http://schemas.openxmlformats.org/officeDocument/2006/relationships/image" Target="../media/image8.jpeg"/><Relationship Id="rId7" Type="http://schemas.openxmlformats.org/officeDocument/2006/relationships/hyperlink" Target="http://images.google.com/imgres?imgurl=http://www.interstate-transport.com/Deep%2520Sea%2520Fishing.jpg&amp;imgrefurl=http://www.interstate-transport.com/Location_Pictures.htm&amp;usg=__rmp-8AlsUq3HczgWw-THZEQ3Q6Y=&amp;h=298&amp;w=450&amp;sz=47&amp;hl=en&amp;start=4&amp;um=1&amp;tbnid=sgoFFG957RE0dM:&amp;tbnh=84&amp;tbnw=127&amp;prev=/images%3Fq%3Dpicture%2Bof%2Bdeep%2Bsea%2Bfishing%26um%3D1%26hl%3Den%26sa%3DG" TargetMode="External"/><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bigisland.org/images/287.jpg&amp;imgrefurl=http://www.bigisland.org/maps-regions/355/hawaii-map-kohala-coast-resort&amp;usg=__tg52QKQzeSdskwFk9hofOCNfiSQ=&amp;h=333&amp;w=500&amp;sz=46&amp;hl=en&amp;start=1&amp;um=1&amp;tbnid=FKP9ogvloNRDMM:&amp;tbnh=87&amp;tbnw=130&amp;prev=/images%3Fq%3Dpicture%2Bof%2Ba%2Bresort%2Bgolf%2Bcourse%26um%3D1%26hl%3Den%26sa%3DG" TargetMode="External"/><Relationship Id="rId2" Type="http://schemas.openxmlformats.org/officeDocument/2006/relationships/image" Target="../media/image10.jpeg"/><Relationship Id="rId3" Type="http://schemas.openxmlformats.org/officeDocument/2006/relationships/hyperlink" Target="http://images.google.com/imgres?imgurl=http://www.offtoneverland.com/images/wdw/recreation/golf.jpg&amp;imgrefurl=http://www.offtoneverland.com/walt_disney_world/recreation.php&amp;usg=__Iz7uaKsGKA2Kk92ndSnsJJUovdk=&amp;h=374&amp;w=250&amp;sz=22&amp;hl=en&amp;start=20&amp;um=1&amp;tbnid=bfDDzonPlrewRM:&amp;tbnh=122&amp;tbnw=82&amp;prev=/images%3Fq%3Dpicture%2Bof%2Ba%2Bgolf%2Bcourse%2Bfairway%2Bon%2Ba%2Bresort%2Bwith%2Bpalm%2Btrees%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asiatraveltips.com/AmariPalmReefResort/AmariPalmReefRoom1.jpg&amp;imgrefurl=http://www.asiatraveltips.com/AmariPalmReefResortHotel.shtml&amp;usg=__bNaaN0woT6ZAUrTDe2murj03akA=&amp;h=912&amp;w=900&amp;sz=77&amp;hl=en&amp;start=19&amp;um=1&amp;tbnid=9gle-cXA1PK4wM:&amp;tbnh=147&amp;tbnw=145&amp;prev=/images%3Fq%3Dpicture%2Bof%2Ba%2Bresort%2Bhotel%26ndsp%3D20%26um%3D1%26hl%3Den%26sa%3DN"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New              Paradise Resort</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 for your next va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Water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aters at the Paradise Resort are unlike any other. Sitting beside the ocean, the Paradise Resort has the best blue waters and view from the Pool to the Ocea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4" name="" descr=""/>
          <p:cNvPicPr/>
          <p:nvPr/>
        </p:nvPicPr>
        <p:blipFill>
          <a:blip r:embed="rId1"/>
          <a:stretch/>
        </p:blipFill>
        <p:spPr>
          <a:xfrm>
            <a:off x="838080" y="3733920"/>
            <a:ext cx="3733920" cy="2743200"/>
          </a:xfrm>
          <a:prstGeom prst="rect">
            <a:avLst/>
          </a:prstGeom>
          <a:ln w="0">
            <a:noFill/>
          </a:ln>
        </p:spPr>
      </p:pic>
      <p:pic>
        <p:nvPicPr>
          <p:cNvPr id="105" name="" descr="">
            <a:hlinkClick r:id="rId2"/>
          </p:cNvPr>
          <p:cNvPicPr/>
          <p:nvPr/>
        </p:nvPicPr>
        <p:blipFill>
          <a:blip r:embed="rId3"/>
          <a:stretch/>
        </p:blipFill>
        <p:spPr>
          <a:xfrm>
            <a:off x="4648320" y="373392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taurants and Bar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the Ocean Blue Café to the Paradise Resort Pool Bar, you can find anything you want to eat or drink, morning, noon, and nigh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offer Oceanside dinin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8" name="" descr="">
            <a:hlinkClick r:id="rId1"/>
          </p:cNvPr>
          <p:cNvPicPr/>
          <p:nvPr/>
        </p:nvPicPr>
        <p:blipFill>
          <a:blip r:embed="rId2"/>
          <a:stretch/>
        </p:blipFill>
        <p:spPr>
          <a:xfrm>
            <a:off x="914400" y="3809880"/>
            <a:ext cx="3352680" cy="2514600"/>
          </a:xfrm>
          <a:prstGeom prst="rect">
            <a:avLst/>
          </a:prstGeom>
          <a:ln w="0">
            <a:noFill/>
          </a:ln>
        </p:spPr>
      </p:pic>
      <p:pic>
        <p:nvPicPr>
          <p:cNvPr id="109" name="" descr="">
            <a:hlinkClick r:id="rId3"/>
          </p:cNvPr>
          <p:cNvPicPr/>
          <p:nvPr/>
        </p:nvPicPr>
        <p:blipFill>
          <a:blip r:embed="rId4"/>
          <a:stretch/>
        </p:blipFill>
        <p:spPr>
          <a:xfrm>
            <a:off x="4876920" y="3809880"/>
            <a:ext cx="3429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oo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pool is top of the line. It goes around the Palm Tree island in the middle. The clear blue water is inviting so come on and have a sw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also have an indoor hot tub on the opposite side.</a:t>
            </a:r>
            <a:endParaRPr b="0" lang="en-US" sz="3200" spc="-1" strike="noStrike">
              <a:solidFill>
                <a:srgbClr val="ffffff"/>
              </a:solidFill>
              <a:latin typeface="Garamond"/>
            </a:endParaRPr>
          </a:p>
        </p:txBody>
      </p:sp>
      <p:pic>
        <p:nvPicPr>
          <p:cNvPr id="112" name="" descr=""/>
          <p:cNvPicPr/>
          <p:nvPr/>
        </p:nvPicPr>
        <p:blipFill>
          <a:blip r:embed="rId1"/>
          <a:stretch/>
        </p:blipFill>
        <p:spPr>
          <a:xfrm>
            <a:off x="838080" y="4191120"/>
            <a:ext cx="3657600" cy="2286000"/>
          </a:xfrm>
          <a:prstGeom prst="rect">
            <a:avLst/>
          </a:prstGeom>
          <a:ln w="0">
            <a:noFill/>
          </a:ln>
        </p:spPr>
      </p:pic>
      <p:pic>
        <p:nvPicPr>
          <p:cNvPr id="113" name="" descr="">
            <a:hlinkClick r:id="rId2"/>
          </p:cNvPr>
          <p:cNvPicPr/>
          <p:nvPr/>
        </p:nvPicPr>
        <p:blipFill>
          <a:blip r:embed="rId3"/>
          <a:stretch/>
        </p:blipFill>
        <p:spPr>
          <a:xfrm>
            <a:off x="4572000" y="4191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ctiviti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ons of fun to be had at the Paradise Resort. We have expanded the activities in the Adventure Packages. We now offer scuba diving, snorkeling, boating, and deep sea fishing tours.</a:t>
            </a:r>
            <a:endParaRPr b="0" lang="en-US" sz="3200" spc="-1" strike="noStrike">
              <a:solidFill>
                <a:srgbClr val="ffffff"/>
              </a:solidFill>
              <a:latin typeface="Garamond"/>
            </a:endParaRPr>
          </a:p>
        </p:txBody>
      </p:sp>
      <p:pic>
        <p:nvPicPr>
          <p:cNvPr id="116" name="" descr="">
            <a:hlinkClick r:id="rId1"/>
          </p:cNvPr>
          <p:cNvPicPr/>
          <p:nvPr/>
        </p:nvPicPr>
        <p:blipFill>
          <a:blip r:embed="rId2"/>
          <a:stretch/>
        </p:blipFill>
        <p:spPr>
          <a:xfrm>
            <a:off x="685800" y="4191120"/>
            <a:ext cx="1905120" cy="2438280"/>
          </a:xfrm>
          <a:prstGeom prst="rect">
            <a:avLst/>
          </a:prstGeom>
          <a:ln w="0">
            <a:noFill/>
          </a:ln>
        </p:spPr>
      </p:pic>
      <p:pic>
        <p:nvPicPr>
          <p:cNvPr id="117" name="" descr="">
            <a:hlinkClick r:id="rId3"/>
          </p:cNvPr>
          <p:cNvPicPr/>
          <p:nvPr/>
        </p:nvPicPr>
        <p:blipFill>
          <a:blip r:embed="rId4"/>
          <a:stretch/>
        </p:blipFill>
        <p:spPr>
          <a:xfrm>
            <a:off x="2590920" y="4191120"/>
            <a:ext cx="1904760" cy="2438280"/>
          </a:xfrm>
          <a:prstGeom prst="rect">
            <a:avLst/>
          </a:prstGeom>
          <a:ln w="0">
            <a:noFill/>
          </a:ln>
        </p:spPr>
      </p:pic>
      <p:pic>
        <p:nvPicPr>
          <p:cNvPr id="118" name="" descr="">
            <a:hlinkClick r:id="rId5"/>
          </p:cNvPr>
          <p:cNvPicPr/>
          <p:nvPr/>
        </p:nvPicPr>
        <p:blipFill>
          <a:blip r:embed="rId6"/>
          <a:stretch/>
        </p:blipFill>
        <p:spPr>
          <a:xfrm>
            <a:off x="4495680" y="4191120"/>
            <a:ext cx="1905120" cy="2438280"/>
          </a:xfrm>
          <a:prstGeom prst="rect">
            <a:avLst/>
          </a:prstGeom>
          <a:ln w="0">
            <a:noFill/>
          </a:ln>
        </p:spPr>
      </p:pic>
      <p:pic>
        <p:nvPicPr>
          <p:cNvPr id="119" name="" descr="">
            <a:hlinkClick r:id="rId7"/>
          </p:cNvPr>
          <p:cNvPicPr/>
          <p:nvPr/>
        </p:nvPicPr>
        <p:blipFill>
          <a:blip r:embed="rId8"/>
          <a:stretch/>
        </p:blipFill>
        <p:spPr>
          <a:xfrm>
            <a:off x="6400800" y="419112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olf Course</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Golf Course is open to who ever wants to play. We offer 18 holes of golf to play. We have golf carts, golf tees, and golf ball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e have everything that you need, just bring your clubs. (Anything rented must be paid for separately)</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22" name="" descr="">
            <a:hlinkClick r:id="rId1"/>
          </p:cNvPr>
          <p:cNvPicPr/>
          <p:nvPr/>
        </p:nvPicPr>
        <p:blipFill>
          <a:blip r:embed="rId2"/>
          <a:stretch/>
        </p:blipFill>
        <p:spPr>
          <a:xfrm>
            <a:off x="838080" y="4800600"/>
            <a:ext cx="4572000" cy="1828800"/>
          </a:xfrm>
          <a:prstGeom prst="rect">
            <a:avLst/>
          </a:prstGeom>
          <a:ln w="0">
            <a:noFill/>
          </a:ln>
        </p:spPr>
      </p:pic>
      <p:pic>
        <p:nvPicPr>
          <p:cNvPr id="123" name="" descr="">
            <a:hlinkClick r:id="rId3"/>
          </p:cNvPr>
          <p:cNvPicPr/>
          <p:nvPr/>
        </p:nvPicPr>
        <p:blipFill>
          <a:blip r:embed="rId4"/>
          <a:stretch/>
        </p:blipFill>
        <p:spPr>
          <a:xfrm>
            <a:off x="6248520" y="4343400"/>
            <a:ext cx="22096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Resort Hotel</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aradise Resort Hotel is the place for you to stay while here. It is right at the heart of all of the action. These rooms offer 3 Bedrooms          2 Baths and a kitchen with all of the works. You won’t regret staying at the Paradise Hotel. </a:t>
            </a:r>
            <a:endParaRPr b="0" lang="en-US" sz="3200" spc="-1" strike="noStrike">
              <a:solidFill>
                <a:srgbClr val="ffffff"/>
              </a:solidFill>
              <a:latin typeface="Garamond"/>
            </a:endParaRPr>
          </a:p>
        </p:txBody>
      </p:sp>
      <p:pic>
        <p:nvPicPr>
          <p:cNvPr id="126" name="" descr="">
            <a:hlinkClick r:id="rId1"/>
          </p:cNvPr>
          <p:cNvPicPr/>
          <p:nvPr/>
        </p:nvPicPr>
        <p:blipFill>
          <a:blip r:embed="rId2"/>
          <a:stretch/>
        </p:blipFill>
        <p:spPr>
          <a:xfrm>
            <a:off x="4800600" y="4267080"/>
            <a:ext cx="3124080" cy="2314800"/>
          </a:xfrm>
          <a:prstGeom prst="rect">
            <a:avLst/>
          </a:prstGeom>
          <a:ln w="0">
            <a:noFill/>
          </a:ln>
        </p:spPr>
      </p:pic>
      <p:pic>
        <p:nvPicPr>
          <p:cNvPr id="127" name="" descr=""/>
          <p:cNvPicPr/>
          <p:nvPr/>
        </p:nvPicPr>
        <p:blipFill>
          <a:blip r:embed="rId3"/>
          <a:stretch/>
        </p:blipFill>
        <p:spPr>
          <a:xfrm>
            <a:off x="914400" y="426708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bout Paradise Resort</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dise Resort has been the people’s choice of resort ever since it opened. Since, thanks to all of the people who have visited through out the years, we are still #1. Just for that, we have given the place an extreme makeover: a new pool, restaurants and bars, and new adventure packages. This is the new and improved Paradise Res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rvation Information</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new adventure package, just to say thanks to everyone, is at a great deal of just $599 per family. This includes it a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would like to come to the new Paradise Resort, please see me, Jason Britton, or call      1-800-555-RS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3:55:39Z</dcterms:created>
  <dc:creator>jtbritton</dc:creator>
  <dc:description/>
  <dc:language>en-US</dc:language>
  <cp:lastModifiedBy>rjohnson</cp:lastModifiedBy>
  <dcterms:modified xsi:type="dcterms:W3CDTF">2009-03-03T15:18:15Z</dcterms:modified>
  <cp:revision>3</cp:revision>
  <dc:subject/>
  <dc:title>Paradise Resort</dc:title>
</cp:coreProperties>
</file>